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dt" idx="37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28D67F40-2003-4E23-BC7B-4882356DC5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90D43990-F720-4926-812E-4EDCF20515A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3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8FEDC851-F9AC-477F-889C-FAC41E9E59C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0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C2926713-CB99-4866-BB0E-8FEB5E3B0F2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3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5A90AE28-A757-435F-AEA2-E2D645C2E71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5F8902FC-1554-4F61-BA06-095ABBF36C9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6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FCDF71AD-188D-481F-83B1-8DAD4339227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9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05B58915-F9D1-4289-90DA-C143904C811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2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D2F30FFA-D032-4EB3-B988-81E914ABE55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5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4C849F97-78F9-4DA1-8AD1-657AB136AC5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DA71484F-7EE9-4236-8680-6C80EE5DCE7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6B969B10-31F2-450D-9482-8295EBE6594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4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67BB3A1A-C4C6-4BAB-A4B7-3813DA3DB36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7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986-FE78-4E5B-BBE9-A7234D1E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515-799F-41C9-99A9-0C348610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E20A7-BEA1-4AF9-87A0-70DC8FD0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A6BCC-813F-47D5-800B-47A6A1B2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22FBC-DCD5-48B8-A400-236C99DF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8ED47-D908-4F64-90AA-C00C6D2B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0D07A-CAA5-4115-85AA-3AA38D43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792C0-F962-4203-8BA5-2AEC7A2D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49AD5-E664-4421-9D0B-C4251002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6D7A2-4DAF-4697-98BA-BF81E626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F2032-60AB-455C-85C4-88800BBF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3086F-3267-4417-A1C5-2E5F32E9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9B7-689B-4A44-A5AB-E6416A8E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FDBE8-9D5F-43DA-9B95-D44014A3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12851-CAA6-476E-87FB-7324AFA7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6AB77-54E0-4840-8BD1-1CBAD59F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DD14E-8934-4923-A049-C5A09CAB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A4C2A-46AE-4968-A0CB-48D0C78E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2F3B5-C56F-44C3-B49A-D77B7CD9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BC140-4FB6-4E1A-BF56-291EB244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D6893-8AFF-4F76-A968-DF9D1740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69DE3-12F2-43A6-BF9A-2052649A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2D292-04AD-4C22-8BE0-28F7CF85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5EA-37F3-4597-AC53-53FDE2AC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5E4B5-99FD-40D9-968D-663CC387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FE54E-CF46-4391-909A-A4AE736F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27C13-F020-4698-BF47-043D6F59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CF975-B35D-4B2A-811C-1E106F83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9710D-BC67-43FF-8349-16692CA2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DBE86-D541-4F60-BDC3-9F5B5789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ED50A-9837-41D9-8D85-363C9A1E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152FB-8EF4-4DD1-B6B2-915EE1D5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DA3E8-120D-432C-8E0C-6C8FC8E8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5E44A-4426-4B36-A339-97FC9C04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3966-1569-424A-92CC-C22BCF65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A0190-6B32-4191-A96B-1397B6D4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64178-71FB-4327-B0E6-99B2EDFB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F0FDD-EB53-4BE3-A1E1-8ADE17CE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FD93D-CCAA-4157-8582-51880788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00B32-5AB7-4F64-BB50-EC77EC16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B52F8-A7FC-4981-B5D8-BD92033E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E27AE-8A18-47C9-BE93-5201FE49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67FC0-8270-4B35-95F6-AEC713C1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B47BF-0B67-4A1D-B967-60ECE3AB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DE1E5-AE1F-4514-B5EA-9F55B2F3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1496-179A-40DD-9D8C-6AEABF76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B00E4-7A43-4470-B9B1-8F845C0F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9719F-9A67-49BF-855E-C7A89A9D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DB183-EB25-4D78-A464-0C94FC9A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36FA8-A2FC-4DAA-AF48-DF6802C5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B747C-3C29-475F-BA23-739E53A7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4973-A5B1-436C-8A42-16A7FD50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4041-C811-4A9E-B0C3-63D7E8C9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DDE5-3CA4-4D33-8163-C6D14899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9F77-EAB7-46D0-BE36-39DDE112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A210-85C6-44D8-AF47-B4FCBA1F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09A-4F4E-47B1-9B0C-2A220440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4BA6-E191-49BE-A826-0369100D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EB9F-0CB6-46C9-897F-9EBC4618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ED17-2F3E-42B9-908D-A16CF9BB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12C8-E117-4C34-B9AD-EC018368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023E-2EB3-4B4A-AEFB-0CB90E53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596D-2196-4562-985A-BB7041BF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43FA-23CA-483C-99F6-D6535659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AABF-28B8-4CC0-B096-DA5C14E1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0C5A-51A1-4C19-A1EA-5C6E8AE9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EFEF-AE2D-4BE3-BF24-EF1CC4DD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472-972B-49EB-AAD3-5626E682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26BED-8825-482A-BD91-8F31DC44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C045-B72A-424A-875C-E5BEC22A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D68A-6CFB-4FB0-B733-87CD44E6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DD7FA-ADB6-49F4-8A32-62DB0D37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75B9E-D349-4220-B96A-13F2011E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A2E2-D976-4742-80E0-4EADFB87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3FF3C-59DB-4868-9391-207853CC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3FE4D-10D3-4D73-9D3C-FD40374D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6A7FA-D3FC-4A94-945B-D1001078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9C076-8616-492D-A7E6-AA250F26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C04-69EF-4A95-8483-EC96B299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E7A8F-E8D8-4FB8-870F-D9279FEF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608DD-1EB9-49B3-A535-1A181181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F6FF-3BE0-4188-B7F9-E8A8EDCB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F6DC7-3470-4932-9F44-B2B5CD0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DB9B-41A5-4995-A915-C0E474DD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BD1E5-955A-471B-991B-F034DD85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0CF02-3F96-43B0-8C3D-3C47F842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2E51C-39F2-4FF4-A974-3935F11D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24D78-F9D7-432C-8F89-32B5EDBF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AF18D-6E83-42A0-B37D-88B05495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C1D-4B36-47B9-9889-72D25F26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C2A37-BDF2-4155-BD3B-4E55D7ED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4C443-4B40-46CE-8B88-07FACD0D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811DD-CBD2-4240-9F9B-F8AD534F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1C7CF-780A-424C-A76C-9F6A54D7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9262B-C3D1-4238-BDB7-7F42EF4B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D03E6-7511-4E61-AA94-8069DB2D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B4A75-996C-40D9-9E72-6F8C2254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58FF4-FCE6-4422-9996-13434F76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7EE3F-537F-4B88-BEFA-1870190C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32673-F243-4CC0-8FEF-CA449791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C31-F59A-427A-ABD9-DE6287D3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12868-451C-43BD-8217-25C9F8DE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680DD-70AB-4B43-AC99-67E76321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58CED-9446-4B75-8221-F905D870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D7551-E043-4D43-8B55-13E40F7F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89842-B294-4A2B-B13B-C97DD77A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5E726-815B-4C0D-A967-E4FCBEF4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2DE21-CDE6-49F1-9472-C38F3067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33518-A10D-4B6C-B3ED-3C6F11F2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15B9B-623F-4517-9876-0DF1C407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50CA5-2DF1-4632-B97D-635077CB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D1D-DF0A-47DE-B536-62910FD1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C3B0E-78A9-48DE-8703-81CA1CCC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8A825-D72F-4428-8929-54C19DFB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8B075-82FC-4526-BF92-D3C5ADD7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0FD47-43D8-48EB-9F7A-F1C2A665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E6904-ED05-4F8A-B1A6-74A1E088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4D632-DD87-4E32-9ABA-3AC818B4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29DCF-32F0-47B6-A16B-E7D72034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4C465-F923-4290-8D6E-B4618466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569DF-DAD6-466F-A868-17619413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7EF77-F9E8-41AC-9996-26EDA55D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1F9-5D58-4591-A3A0-91CA5687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27D9A-B649-4FBB-833F-AAD58D8F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8338C-485D-4DFB-A86F-BD36B511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DD888-3812-4A70-B114-6A784E65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0AA8E-369B-4083-9F8E-96018963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40FD4-4E71-4B54-94C8-3E416F9A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A14E0-72E8-4638-8EEB-8C4E643C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7B580-96C9-443A-AD0F-E05C76F0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31D5D-BD5F-403A-ADA9-0BF1A1F1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9028B-0CC4-4A79-A710-A8B348B8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893AB-3D7E-44CE-92B3-2E36D53B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E0A-1C22-4593-95B8-B28445AF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9E87F-D7BC-483B-8B9C-E74CD67E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3A73E-48D1-413E-BA7A-AC38B1B3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021EC-64A9-45AF-AB28-86F27F78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5F1CD-A0C5-4EA0-8091-696D1A35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DE72F-B29D-4590-A4E3-78A4973A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01BB7-FD0F-47A9-AF89-C3C6DD98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F3929-3126-4E9C-A1F2-6F7119A5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D921E-C39B-4862-BE26-769167E5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A2086-FFDB-435B-9638-B3060828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E5B2A-8609-48D6-BF17-0A529263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F82957-382D-4F0B-BEB9-1F47D3AB91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AFC25D-B469-4327-829A-BD27674CF2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0A88C1-F12D-4DD2-9ABA-04CEE5D2CD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DC5679-8811-4EFE-A64C-4DE5FB17C5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981107-372E-4E72-A960-343F0F9DE9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D4DB18-64FA-4345-864C-67120CEA81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09B8DE-4DF7-4711-A602-B4F2AE1E32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9BA653-889E-4F72-BE74-3CEAE36FD6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0F30DA-58E6-42E1-AE59-E32CC1E38C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2B39F4-B60D-4804-B2B4-F3D9289203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63947D-5D99-4723-AA35-D76DFC96E8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9EFBF2-4AF5-4670-ABD6-252791D2AB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914840" y="2103480"/>
            <a:ext cx="631152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Go Tell It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On The Mountain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1876680" y="1417680"/>
            <a:ext cx="64033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ver the hills and everywhere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at Jesus Christ is born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2408760" y="1417680"/>
            <a:ext cx="533952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 made me a watchma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Upon the city wall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if I am a Christia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 am the least of all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1876680" y="1417680"/>
            <a:ext cx="64033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ver the hills and everywhere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at Jesus Christ is born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1876680" y="1417680"/>
            <a:ext cx="64033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ver the hills and everywhere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at Jesus Christ is born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1236600" y="1417680"/>
            <a:ext cx="76834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ile shepherds kept their watch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ver silent flocks by night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ehold throughout the heavens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shone a holy ligh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876680" y="1417680"/>
            <a:ext cx="64033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ver the hills and everywhere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at Jesus Christ is born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1357560" y="1417680"/>
            <a:ext cx="74412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shepherds feared and tremble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en lo! above the ear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ang out the angel choru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at hailed our Savior's bir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1876680" y="1417680"/>
            <a:ext cx="64033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ver the hills and everywhere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at Jesus Christ is born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2023560" y="1417680"/>
            <a:ext cx="61092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own in a lowly manger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ur humble Christ was bor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God send us salvatio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at blessed Christmas mor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876680" y="1417680"/>
            <a:ext cx="64033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ver the hills and everywhere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, Tell It On The Mount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at Jesus Christ is born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2284200" y="1417680"/>
            <a:ext cx="558792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en I am a seek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 seek both night and day;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 seek the Lord to help m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He shows me the wa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pcwade</cp:lastModifiedBy>
  <dcterms:modified xsi:type="dcterms:W3CDTF">2015-12-05T17:21:04Z</dcterms:modified>
  <cp:revision>1580</cp:revision>
  <dc:subject/>
  <dc:title>Slide 1</dc:title>
</cp:coreProperties>
</file>